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C240-0149-439F-9BDA-6564A124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7CF-9AB3-4A6D-9DB7-EB17F7F1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DEA-5F90-43DD-9300-30608959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90C-58A2-4E18-BD58-B535BCE6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6131-86DA-4971-B657-0A3559CD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ACD-ADB2-47FE-9E7C-00D9822E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45F-222C-4FBD-8D3E-8EBAD9E9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1D5-C6F5-4E7A-8C69-BDF25882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828-2F81-4199-9AF2-216FE27B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00E-72C7-43C8-AAB3-48C135A0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DCE-8337-4050-A176-772CA788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515-19C7-4CE2-B4FC-201888F5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488F-B32A-4F99-9B8E-7E28EC75D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1413000"/>
            <a:ext cx="82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2320">
                  <a:solidFill>
                    <a:srgbClr val="0099ff"/>
                  </a:solidFill>
                  <a:miter/>
                </a:ln>
                <a:solidFill>
                  <a:srgbClr val="66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THUR  CONAN  DOYLE</a:t>
            </a:r>
            <a:endParaRPr b="0" lang="en-US" sz="4000" spc="1" strike="noStrike">
              <a:ln w="22320">
                <a:solidFill>
                  <a:srgbClr val="0099ff"/>
                </a:solidFill>
                <a:miter/>
              </a:ln>
              <a:solidFill>
                <a:srgbClr val="66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19280" y="4149720"/>
            <a:ext cx="63784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66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Y: ANA ISABEL CRESPO</a:t>
            </a:r>
            <a:endParaRPr b="0" lang="en-US" sz="3200" spc="1" strike="noStrike">
              <a:ln w="19080">
                <a:solidFill>
                  <a:srgbClr val="0000ff"/>
                </a:solidFill>
                <a:miter/>
              </a:ln>
              <a:solidFill>
                <a:srgbClr val="66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hur Ignatius Conan Doyle (1859-1930),was born on May 22, 1859, in Edinburgh, Scot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yle, British novelist, and detective-story writer, creator of Sherlock Hol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ducated in the University of Edinburgh. From 1882 to 1890 he practiced medicine in Southsea,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5640" y="404640"/>
            <a:ext cx="734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2320">
                  <a:solidFill>
                    <a:srgbClr val="ff6600"/>
                  </a:solidFill>
                  <a:miter/>
                </a:ln>
                <a:solidFill>
                  <a:srgbClr val="ffcc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IOGRAPHY</a:t>
            </a:r>
            <a:endParaRPr b="0" lang="en-US" sz="4000" spc="1" strike="noStrike">
              <a:ln w="22320">
                <a:solidFill>
                  <a:srgbClr val="ff6600"/>
                </a:solidFill>
                <a:miter/>
              </a:ln>
              <a:solidFill>
                <a:srgbClr val="ffcc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3924360" cy="37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42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0" i="1" lang="es-ES" sz="2400" spc="-1" strike="noStrike">
                <a:solidFill>
                  <a:srgbClr val="000000"/>
                </a:solidFill>
                <a:latin typeface="Arial Black"/>
              </a:rPr>
              <a:t>The return of Sherlock Hol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i="1" lang="es-ES" sz="2400" spc="-1" strike="noStrike">
                <a:solidFill>
                  <a:srgbClr val="000000"/>
                </a:solidFill>
                <a:latin typeface="Arial Black"/>
              </a:rPr>
              <a:t>- Adventuring i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i="1" lang="es-ES" sz="2400" spc="-1" strike="noStrike">
                <a:solidFill>
                  <a:srgbClr val="000000"/>
                </a:solidFill>
                <a:latin typeface="Arial Black"/>
              </a:rPr>
              <a:t>- A Study in Southsea: From Bush Villas to Baker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Arial Black"/>
              </a:rPr>
              <a:t>-The True Crimes Investig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5640" y="260280"/>
            <a:ext cx="7561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1680">
                  <a:solidFill>
                    <a:srgbClr val="cc00cc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OME BOOKS</a:t>
            </a:r>
            <a:endParaRPr b="0" lang="en-US" sz="4000" spc="1" strike="noStrike">
              <a:ln w="31680">
                <a:solidFill>
                  <a:srgbClr val="cc00cc"/>
                </a:solidFill>
                <a:miter/>
              </a:ln>
              <a:solidFill>
                <a:srgbClr val="ff99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248360" cy="2335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1586160" cy="2592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189000"/>
            <a:ext cx="80643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PHOTOS</a:t>
            </a:r>
            <a:endParaRPr b="1" lang="en-US" sz="6600" spc="1" strike="noStrike">
              <a:ln w="316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2840040" cy="4537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651640" y="1557360"/>
            <a:ext cx="3211200" cy="4724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203640" y="1989000"/>
            <a:ext cx="2340000" cy="3384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3817800" cy="364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50920" y="189000"/>
            <a:ext cx="856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Fax"/>
              </a:rPr>
              <a:t>MORE PHOTOS</a:t>
            </a:r>
            <a:endParaRPr b="1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ucida Fax"/>
              <a:ea typeface="Lucida Fax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780000" y="1628640"/>
            <a:ext cx="2662200" cy="4437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6607080" y="2852640"/>
            <a:ext cx="2536920" cy="3700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8:41:08Z</dcterms:created>
  <dc:creator>Alumno50</dc:creator>
  <dc:description/>
  <dc:language>en-US</dc:language>
  <cp:lastModifiedBy>Alumno50</cp:lastModifiedBy>
  <dcterms:modified xsi:type="dcterms:W3CDTF">2008-06-09T08:47:06Z</dcterms:modified>
  <cp:revision>5</cp:revision>
  <dc:subject/>
  <dc:title>Diapositiva 1</dc:title>
</cp:coreProperties>
</file>